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B477-0CB2-4D73-9F6A-E3B4D14DE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E515-8F70-47A9-A110-9DC20C49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612F-A0F5-4ED0-8007-5E9831F17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A553-AE7B-46DC-8343-4462D723D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C2AA-6EBC-4544-8763-66453BF8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AAC1-0235-4B6B-9850-CC8213BF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63AC-C0C4-4351-A186-6E4A80E2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F652-69AE-4589-9E27-A506C5AB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8631-D634-471D-B766-3AE05140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DEBC-F440-47A6-ABFC-21ACCDB2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0C49-C97B-4EE2-9D33-C72A65B1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E80E-BC67-447E-A973-275C55DD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4E71-6681-47D6-90EB-E660D741B7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лучение и свойства алке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уч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     Основным промышленным источником получения первых четырех членов ряда алкенов (этилена, пропилена, бутиленов и пентиленов) являются газы крекинга и пиролиза нефтепродуктов, а также газы коксования угля (этилен, пропилен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азы крекинга и пиролиза нефтепродуктов содержат от 15 до 30% олефинов. Так, крекинг бутана при 600°С приводит к смеси водорода, метана, этана и олефинов – этилена, пропилена, псевдобутилена (бутена -2) с соотношением олефинов ≈ 3,5 : 5 : 1,5  соответственн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     Все более значительные количества алкенов получают дегидрогенизацией алканов при повышенной температуре с катализатор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–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30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°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C,Cr2O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CH–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утен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) +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CH=CH–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утен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) +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  В лабораторной практике наиболее распространенным способом получения алкенов является дегидратация (отщепление воды) спиртов при нагревании с водоотнимающими средствами (концентрированная серная или фосфорная кислоты) или при пропускании паров спирта над катализатором (окись алюминия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OH 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танол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  ––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t°,Al2O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®  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рядок дегидратации вторичных и третичных спиртов определяется правилом А.М.Зайцева: при образовании воды атом водорода отщепляется от наименее гидрогенизированного соседнего атома углерода, т.е. с наименьшим количеством водородных атомов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CH–C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l      l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H–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бутанол-2) ® 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CH=CH–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бутен-2) + 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H  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сто алкены получают реакцией дегидрогалогенирования (отщепление галогеноводорода) из галогенопроизводных при действии спиртового раствора щелочи. Направление данной реакции также соответствует правилу Зайце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2-бромбутан) +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OH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спирт.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) ®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Br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        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        B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)     Реакция дегалогенирования (отщепление двух атомов галогена от соседних атомов углерода) при нагревании дигалогенидов с активными металлами также приводит к алкен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1,2-дибромпропан) +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g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®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пропен) +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gBr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      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r      B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имические свой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Химические свойст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алкенов определяются строением и свойствами двойной связи С=С, которая значительно активнее других связей в молекулах этих соединений. Алкены химически более активны, чем алканы.  Характеристики углерод-углеродных связей: Е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энергия двойной связи С=С (s+p)) = 620 кДж/моль; Е (энергия s-связи) С-С = 348 кДж/мол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Реакции присоеди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)    Галогенирова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Алкены при обычных условиях присоединяют галогены, приводя к дигалогенопроизводным алканов, содержащим атомы галогена у соседних углеродных атом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 Br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­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r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1,2-дибромэтан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веденная реакция - обесцвечивание алкеном бромной воды является качественной реакцией на двойную связ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    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Гидрирование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Алкены легко присоединяют водород в присутствии катализаторов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t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d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, образуя предельные углеводоро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CH=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 +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 ––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Ni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®  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–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пан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    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Гидрогалогенирование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Этилен и его гомологи присоединяют галогеноводороды, приводя к галогенопроизводным углеводород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Br  ®  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r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бромистый эти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оединение галогеноводородов к пропилену и другим алкенам происходит в соответствии.  Реакция присоединения галогеноводородов к несимметричным алкенам идет по правилу Марковникова, а именно: атом водорода присоединяется к наиболее гидрогенизированному атому углерода при двойной связи, то есть к атому углерода с наибольшим числом водородных атом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−CH=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+ HCl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−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2-хлорпропан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)    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Гидратация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 присутствии минеральных кислот олефины присоединяют воду, образуя спир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)    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ульфатация 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- сульфирование)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заимодействие алкенов с серной кислотой приводит к кислым эфирам серной кисло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CH−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+ HO−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−OH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− 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−O−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−OH  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зопропилсерная кислот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видно, направление реакций гидратации и сульфирования также определяется правилом Марковнико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50004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Реакции окис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лкены легко окисляются. В зависимости от условий проведения реакции образуются различные продук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a)    При сжигании на воздухе олефины дают углекислый газ и воду (полное окислени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+ 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®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+ 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окислении алкенов разбавленным раствором перманганата калия  образуются двухатомные спирты – гликоли (реакция Е.Е.Вагнера). Реакция протекает на холод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C=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+ 2KMnO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+ 4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O ®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−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этиленгликоль) + 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nO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+ 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OH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     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H    OH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результате реакции наблюдается обесцвечивание раствора перманганата калия. Реакция Вагнера служит качественной пробой на двойную связ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Реакции полимериз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ной из наиболее важных в практическом отношении реакций непредельных соединений (или олефинов) является полимеризация. Реакцией полимеризации называется процесс образования высокомолекулярного соединения (полимера) путем соединения друг с другом молекул исходного низкомолекулярного соединения (мономера -М)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исло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зывается степенью полимеризации. При полимеризации двойные связи в молекулах исходного непредельного соединения "раскрываются", и за счет образующихся свободных валентностей эти молекулы соединяются друг с другом. Полимеризация олефинов вызывается нагреванием, давлением, облучением, действием свободных радикалов или катализатор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7T06:37:29Z</dcterms:created>
  <dc:creator>Андрей</dc:creator>
  <dc:description/>
  <dc:language>en-US</dc:language>
  <cp:lastModifiedBy>Андрей</cp:lastModifiedBy>
  <dcterms:modified xsi:type="dcterms:W3CDTF">2020-08-27T07:31:41Z</dcterms:modified>
  <cp:revision>10</cp:revision>
  <dc:subject/>
  <dc:title>Получение и свойства алкенов</dc:title>
</cp:coreProperties>
</file>